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C2F3-093E-4F0A-8AD2-B63ED6647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8508-C41C-424E-B105-67804FB8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08DE-C261-4866-A07C-5EB61F7C9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A401-7C34-4C76-BBD4-99D2A60A8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3AA5A-9B85-4331-8DAF-02847CA35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BA561-7BE9-437D-9DD6-2BAB4BFC9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B00A2-A4A6-4FA0-AE4E-567B16992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A0D07-9522-445A-BE6A-EFDDE869D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E725B-95DA-484A-8CEF-A50FDEF0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A112C-7D5D-434A-AE0D-D70A00238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9C1CB-131A-4EDE-96F2-813355A0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D148-2EB6-4254-B350-346FD1EC1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FCA9A-BB7A-4F7B-BD01-73E172FB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6B983-FBAF-48D9-94D5-313E2296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E0A0B-FCBA-4E64-AEAF-4AECFED1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8F405-C1EE-4399-A4E2-7B5A66EF6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7D06B-D5D7-4739-8394-488704F7D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3F76-304B-4368-AFA7-9827D902B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F197-A9D0-4186-AA34-7B250FDE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54C6-91F7-43A5-958D-2246A177D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349C-49DC-4C7E-B533-F3F1C2371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CFEF-93BB-4892-890F-DE96F5E3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E4D8-BFA5-4581-8BF4-ED155100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184E-23CF-4C73-8E48-D69A7C3C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D6B39-AC18-4631-B8D7-335206980329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3ED6-B066-4973-BA43-EAB1F47E0C7E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17160" y="659880"/>
            <a:ext cx="863748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545472"/>
                </a:solidFill>
                <a:latin typeface="Adobe Garamond Pro Bold"/>
              </a:rPr>
              <a:t>Zia Haq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99920" y="2590560"/>
            <a:ext cx="7086600" cy="198108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8000"/>
                </a:solidFill>
                <a:latin typeface="Tahoma"/>
              </a:rPr>
              <a:t>Country         :: Pakista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8000"/>
                </a:solidFill>
                <a:latin typeface="Tahoma"/>
              </a:rPr>
              <a:t>Me in class    ::</a:t>
            </a:r>
            <a:r>
              <a:rPr b="0" lang="es-ES" sz="2800" spc="-1" strike="noStrike">
                <a:solidFill>
                  <a:srgbClr val="545472"/>
                </a:solidFill>
                <a:latin typeface="Tahoma"/>
              </a:rPr>
              <a:t> 10th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cc00"/>
                </a:solidFill>
                <a:latin typeface="Tahoma"/>
              </a:rPr>
              <a:t>My interest</a:t>
            </a:r>
            <a:r>
              <a:rPr b="0" lang="es-ES" sz="2800" spc="-1" strike="noStrike">
                <a:solidFill>
                  <a:srgbClr val="545472"/>
                </a:solidFill>
                <a:latin typeface="Tahoma"/>
              </a:rPr>
              <a:t>    :: internet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66"/>
                </a:solidFill>
                <a:latin typeface="Tahoma"/>
              </a:rPr>
              <a:t>My favourite subject</a:t>
            </a:r>
            <a:r>
              <a:rPr b="0" lang="es-ES" sz="2800" spc="-1" strike="noStrike">
                <a:solidFill>
                  <a:srgbClr val="545472"/>
                </a:solidFill>
                <a:latin typeface="Tahoma"/>
              </a:rPr>
              <a:t>:: arts, history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1600200" y="5334120"/>
            <a:ext cx="6858000" cy="1015920"/>
          </a:xfrm>
          <a:prstGeom prst="rect">
            <a:avLst/>
          </a:prstGeom>
          <a:solidFill>
            <a:srgbClr val="660066"/>
          </a:solid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Proud to be the part of Asia Europe Class Network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And thank you for giving me a chance in HisBulPic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38" name="pakistan" descr=""/>
          <p:cNvPicPr/>
          <p:nvPr/>
        </p:nvPicPr>
        <p:blipFill>
          <a:blip r:embed="rId6"/>
          <a:stretch/>
        </p:blipFill>
        <p:spPr>
          <a:xfrm>
            <a:off x="7086600" y="533520"/>
            <a:ext cx="145080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3T10:55:33Z</dcterms:created>
  <dc:creator>pasha</dc:creator>
  <dc:description/>
  <dc:language>en-US</dc:language>
  <cp:lastModifiedBy>Sumi</cp:lastModifiedBy>
  <dcterms:modified xsi:type="dcterms:W3CDTF">2010-01-27T00:00:29Z</dcterms:modified>
  <cp:revision>30</cp:revision>
  <dc:subject/>
  <dc:title>MR. HAROON </dc:title>
</cp:coreProperties>
</file>